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4B9-5F8D-47D7-9D40-BC20F461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83B-BBD2-46F2-8669-3477B526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2D2F-A4C8-47A8-8DCE-2AC86746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8D69-050A-478D-97C5-0981B98B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B2DA-0989-45F8-848E-44DBC269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E4F6-28B4-498C-9DA1-7B2634BA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FAE2-E4F6-43D4-943E-06B0B83E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6045-67ED-40CC-9562-5B8AFFD4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349-5959-4E65-BFF2-3CCD2FCE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C0C-E131-458F-828D-26D67684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07C5-A857-4C6A-8ED6-C0A0AC99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B4D-EC6E-44AA-9410-F210D788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4C1F8-84E9-4397-A948-D9ED62C3C1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B1CB6-61F5-4685-B431-6C0470091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ir.net.au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387360" y="463680"/>
            <a:ext cx="4971960" cy="35226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563840" y="2973240"/>
            <a:ext cx="41972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1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1300 833 123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www.sir.net.au</a:t>
            </a:r>
            <a:r>
              <a:rPr b="0" lang="en-US" sz="2200" spc="-1" strike="noStrike" u="sng">
                <a:solidFill>
                  <a:srgbClr val="604a7b"/>
                </a:solidFill>
                <a:uFillTx/>
                <a:latin typeface="Times New Roman"/>
                <a:ea typeface="Times New Roman"/>
              </a:rPr>
              <a:t>  Fax: 9487 984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6T23:33:04Z</dcterms:created>
  <dc:creator>Eisen Liang</dc:creator>
  <dc:description/>
  <dc:language>en-US</dc:language>
  <cp:lastModifiedBy>Eisen Liang</cp:lastModifiedBy>
  <dcterms:modified xsi:type="dcterms:W3CDTF">2014-10-26T23:41:07Z</dcterms:modified>
  <cp:revision>1</cp:revision>
  <dc:subject/>
  <dc:title>Slide 1</dc:title>
</cp:coreProperties>
</file>